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781D5-1753-48A4-AF6F-D8E3A52D4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91B99-EF59-41FC-9944-8A4BB31B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02018-6A0C-4977-BE78-39DEE3EF1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2A681-DF32-4B21-B729-ACA8F2870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FD2A-5FFD-48E5-B597-BDAC7DA10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A764-C982-4545-9BE8-320D6935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173F-1E01-4956-A445-8EDF8784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621B-08C7-4067-AEC9-676203E0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273C-08AC-4FF7-9841-3118DAD6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FBE5-5DEA-46E3-8DE9-E53A8664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CE90-E392-4473-A4DB-BD38550F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DB2E3-C036-482D-BF40-DC9B3178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AB27-B25D-4FD4-8824-80471D65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A6BE-44DD-4856-B62E-E5F6C5D5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1A64-DF81-4511-A0E5-A6FE4ED1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EC69-84AE-4F59-8E97-A36C84424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952E-46C8-4F3F-8A69-77DE6CF0B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EB15F-FBA5-49C0-B90D-9A0018E6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C63B5-E4E5-4CF5-96DF-DF72C233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257DA-E773-421F-8218-4A71E238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D16D7-F570-4491-94B4-DB8AC2D2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1CFBE-3D66-4023-AC2F-6247950E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18A14-667F-4A69-8767-EE1F41B3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8D91B-1848-4728-8422-EA8A7AF7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3AAE-0820-486D-9620-752979275E0E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5F0F-A928-49B9-B82C-0DBE34A52101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087560" y="1082160"/>
            <a:ext cx="111315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55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Пр.336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ионе, весел глас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ъм Бога възвиси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Яви се Бог Христос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пасение прогласи.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тани, свети, че светлина -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осподня слава - веч изгря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1831320"/>
            <a:ext cx="896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еб Свойта благодат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ри най-първо Той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види целий свят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е Господ е Бог твой.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вети, да види този свят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Бога славна благодат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2021760"/>
            <a:ext cx="896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Него радостно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от сърце служи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верен, о, дано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окрай да бъдеш ти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тази гъста тъмнин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мени със сияйна светлин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2021760"/>
            <a:ext cx="896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Хвали Го тук, дод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е вземе в горний храм;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газ ти по-добр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Го възпяваш там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как ще бъдеш ти блажен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града свят, неръкотворен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10-24T15:48:59Z</dcterms:modified>
  <cp:revision>41</cp:revision>
  <dc:subject/>
  <dc:title>Slide 1</dc:title>
</cp:coreProperties>
</file>